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110D-B14C-476B-AAF4-E180A0DA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A125-2EB5-44A1-B0F0-FE9AF6CB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0AE-2717-475C-97B6-8A2C3FC7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CB29-82AB-4416-AFB6-577CE293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53ED-C5AD-472B-B0C4-36C209F5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97C8-AB03-45E3-ADB8-6029A975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490C-2265-4BE4-910F-FFAED693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B6B8-B72F-464E-B19D-C09D0904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8127-F668-4C24-8DF0-06BB1CD8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0AE5-5163-401A-A00B-20DDE5FA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7328-1BE5-4D41-8DF5-4B2B0E5F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779C-D3C9-4BB2-A33B-B68D37EF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50EB-A3F3-479B-B4C9-F09F58B2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D08E-A27B-4F0C-952A-FF3F0037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8ED8-A92B-4BB1-A2B4-7AC1CEBC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E90D-B25D-436D-9358-8DC8FB21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937E-59E9-4F70-98E3-ACB2F7BF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076-5E61-42B3-9F19-A7E5B4D7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088-2F6F-4B7B-8F12-B75978CE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082-1E71-4913-AB1B-B7AAF215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5C8-C9CF-4818-AD40-7BEBC8E2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03B-D0EE-4044-AEC2-18B0AA75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620-EFDD-4C46-9C02-E7BAC4DF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8D30-312F-4EEB-8A0E-38200AE7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e1bf9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8a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b8ad4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3ce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8ECE-51AB-410E-9779-99E853F5367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b8a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b8ad48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e1b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e1bf9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3ce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AF84-3988-485B-836E-00312FB3735F}" type="slidenum">
              <a:rPr b="0" lang="ru-RU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ru.wikipedia.org/wiki/&#1060;&#1072;&#1081;&#1083;:&#1057;&#1048;&#1041;_&#1050;&#1050;_1916_&#1075;&#1086;&#1076;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/index.php?title=&#1060;&#1072;&#1081;&#1083;:RUSSOJAPANESEWARIMAGE.jpg&amp;filetimestamp=20070914140359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564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</a:t>
            </a:r>
            <a:endParaRPr b="0" lang="en-US" sz="20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7280" y="1197000"/>
            <a:ext cx="7772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1bf91"/>
                </a:solidFill>
                <a:latin typeface="Tahoma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ce82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ff6600"/>
                </a:solidFill>
                <a:latin typeface="Tahoma"/>
              </a:rPr>
              <a:t>«Великие люди Росси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ce82"/>
                </a:solidFill>
                <a:latin typeface="Tahoma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Карбышев Дмитрий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Михайлович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1717920" y="153000"/>
            <a:ext cx="67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Великая Отечественная вой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987640" y="634320"/>
            <a:ext cx="5908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Tahoma"/>
              </a:rPr>
              <a:t>В начале июня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6600"/>
                </a:solidFill>
                <a:latin typeface="Tahoma"/>
              </a:rPr>
              <a:t>1941 год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Д. М. Карбышев был командирован в Западный Особый военный округ . Участвовал в укреплении Брестской крепости. Отечественная война застала его в штабе 3-й армии в г. Гродно. Через 2 дня он перешёл в штаб 10-й армии. </a:t>
            </a:r>
            <a:r>
              <a:rPr b="0" lang="ru-RU" sz="1800" spc="-1" strike="noStrike">
                <a:solidFill>
                  <a:srgbClr val="ff6600"/>
                </a:solidFill>
                <a:latin typeface="Tahoma"/>
              </a:rPr>
              <a:t>27 июня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штаб армии оказался в окружении. </a:t>
            </a:r>
            <a:r>
              <a:rPr b="0" lang="ru-RU" sz="1800" spc="-1" strike="noStrike">
                <a:solidFill>
                  <a:srgbClr val="ff6600"/>
                </a:solidFill>
                <a:latin typeface="Tahoma"/>
              </a:rPr>
              <a:t>8 августа 1941 год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ри попытке выйти из окружения генерал Карбышев был тяжело контужен в бою в районе Днепра, у деревни Добрейка. В  бессознательном состоянии был </a:t>
            </a:r>
            <a:r>
              <a:rPr b="0" lang="ru-RU" sz="1800" spc="-1" strike="noStrike">
                <a:solidFill>
                  <a:srgbClr val="ff6600"/>
                </a:solidFill>
                <a:latin typeface="Tahoma"/>
              </a:rPr>
              <a:t>захвачен в плен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7" descr="&amp;Kcy;&amp;acy;&amp;rcy;&amp;tcy;&amp;icy;&amp;ncy;&amp;kcy;&amp;acy; 39 &amp;icy;&amp;zcy; 52"/>
          <p:cNvPicPr/>
          <p:nvPr/>
        </p:nvPicPr>
        <p:blipFill>
          <a:blip r:embed="rId2"/>
          <a:stretch/>
        </p:blipFill>
        <p:spPr>
          <a:xfrm>
            <a:off x="5076720" y="3860640"/>
            <a:ext cx="301788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4"/>
          <p:cNvSpPr/>
          <p:nvPr/>
        </p:nvSpPr>
        <p:spPr>
          <a:xfrm>
            <a:off x="3924360" y="510480"/>
            <a:ext cx="5018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оугольник 1"/>
          <p:cNvSpPr/>
          <p:nvPr/>
        </p:nvSpPr>
        <p:spPr>
          <a:xfrm>
            <a:off x="2946240" y="3244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оугольник 1"/>
          <p:cNvSpPr/>
          <p:nvPr/>
        </p:nvSpPr>
        <p:spPr>
          <a:xfrm>
            <a:off x="3348000" y="1052640"/>
            <a:ext cx="53276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мцы, отправившие Дмитрия Михайловича в спецлагерь для советских генералов, сразу узнали, кто попал к ним, и стали уговаривать сотрудничать, потому что очень нуждались в ведущем военном специалисте в инженерной сфере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3924360" y="510480"/>
            <a:ext cx="5018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Прямоугольник 1"/>
          <p:cNvSpPr/>
          <p:nvPr/>
        </p:nvSpPr>
        <p:spPr>
          <a:xfrm>
            <a:off x="2946240" y="3244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Прямоугольник 1"/>
          <p:cNvSpPr/>
          <p:nvPr/>
        </p:nvSpPr>
        <p:spPr>
          <a:xfrm>
            <a:off x="2940120" y="1015920"/>
            <a:ext cx="5735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ри с половиной года провел Карбышев в фашистских застенках. Ему обещали золотые горы, если он предаст Родину и станет работать на фашистов. Его били, подвергали жестоким  пыткам .  И однажды сердце  65-летнего генерала  не выдержало .О его несгибаемой воле, чести и достоинстве  слагались легенды. О судьбе  Карбышева Д.М. несколько лет в Москве вообще ничего не знали. Примечательно, что в его "Личном деле" в 1941 году была сделана официальная отметка: "Пропал без вести"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3924360" y="-1622880"/>
            <a:ext cx="501804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ahoma"/>
              </a:rPr>
              <a:t>ПАМЯТЬ О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ahoma"/>
              </a:rPr>
              <a:t>ГЕНЕРАЛЕ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ahoma"/>
              </a:rPr>
              <a:t>НАВСЕГД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6600"/>
                </a:solidFill>
                <a:latin typeface="Tahoma"/>
              </a:rPr>
              <a:t>ОСТАНЕТСЯ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ahoma"/>
              </a:rPr>
              <a:t>В НАШИХ СЕРДЦАХ!!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Прямоугольник 1"/>
          <p:cNvSpPr/>
          <p:nvPr/>
        </p:nvSpPr>
        <p:spPr>
          <a:xfrm>
            <a:off x="2946240" y="3244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2" descr="E:\Сохранённое\картинки к 75 летию победы\1540627715_msk_vizitka_karbyshev_nia_01.png"/>
          <p:cNvPicPr/>
          <p:nvPr/>
        </p:nvPicPr>
        <p:blipFill>
          <a:blip r:embed="rId2"/>
          <a:stretch/>
        </p:blipFill>
        <p:spPr>
          <a:xfrm>
            <a:off x="-46080" y="-355680"/>
            <a:ext cx="9190080" cy="72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-1571760" y="-184320"/>
            <a:ext cx="10715760" cy="70423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3924360" y="510480"/>
            <a:ext cx="5018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Прямоугольник 1"/>
          <p:cNvSpPr/>
          <p:nvPr/>
        </p:nvSpPr>
        <p:spPr>
          <a:xfrm>
            <a:off x="2946240" y="3244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Прямоугольник 1"/>
          <p:cNvSpPr/>
          <p:nvPr/>
        </p:nvSpPr>
        <p:spPr>
          <a:xfrm>
            <a:off x="2286000" y="-79200"/>
            <a:ext cx="4572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нумент огромной выразительной силы. Памятник выполнен из цельной глыбы белого мрамора. Фигура героя, скованного ледяной неподвижностью камня, символизирует стойкость и героизм. Мраморный монумент поставлен на широкую, полированную гранитную плиту. На чёрном граните плиты высоким рельефом награвирована надпись «Дмитрию Карбышеву.  Ученому. Воину. Коммунисту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-33480" y="-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3504960" y="-168120"/>
            <a:ext cx="218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ahoma"/>
              </a:rPr>
              <a:t>Памят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2484360" y="692280"/>
            <a:ext cx="584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амятники генералу Д.М. Карбышеву    установле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Прямоугольник 1"/>
          <p:cNvSpPr/>
          <p:nvPr/>
        </p:nvSpPr>
        <p:spPr>
          <a:xfrm>
            <a:off x="2946240" y="3244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9" descr=""/>
          <p:cNvPicPr/>
          <p:nvPr/>
        </p:nvPicPr>
        <p:blipFill>
          <a:blip r:embed="rId2"/>
          <a:stretch/>
        </p:blipFill>
        <p:spPr>
          <a:xfrm>
            <a:off x="-285840" y="-214200"/>
            <a:ext cx="9429840" cy="70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"/>
          <p:cNvSpPr/>
          <p:nvPr/>
        </p:nvSpPr>
        <p:spPr>
          <a:xfrm>
            <a:off x="3504960" y="-168120"/>
            <a:ext cx="218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ahoma"/>
              </a:rPr>
              <a:t>Памят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2484360" y="692280"/>
            <a:ext cx="5840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В 1946 ГОДУ ЕМУ БЫЛО ПРИСВОЕНО ЗВАНИЕ ГЕРОЯ СОВЕТСКОГО СОЮЗА ПОСМЕРТНО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Прямоугольник 1"/>
          <p:cNvSpPr/>
          <p:nvPr/>
        </p:nvSpPr>
        <p:spPr>
          <a:xfrm>
            <a:off x="2946240" y="3244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4"/>
          <p:cNvSpPr/>
          <p:nvPr/>
        </p:nvSpPr>
        <p:spPr>
          <a:xfrm>
            <a:off x="3924360" y="205920"/>
            <a:ext cx="5018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Прямоугольник 1"/>
          <p:cNvSpPr/>
          <p:nvPr/>
        </p:nvSpPr>
        <p:spPr>
          <a:xfrm>
            <a:off x="2946240" y="3244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Прямоугольник 1"/>
          <p:cNvSpPr/>
          <p:nvPr/>
        </p:nvSpPr>
        <p:spPr>
          <a:xfrm>
            <a:off x="2286000" y="836640"/>
            <a:ext cx="66564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ahoma"/>
              </a:rPr>
              <a:t>Главное-не пасть на колени перед врагом!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3924360" y="205920"/>
            <a:ext cx="5018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Прямоугольник 1"/>
          <p:cNvSpPr/>
          <p:nvPr/>
        </p:nvSpPr>
        <p:spPr>
          <a:xfrm>
            <a:off x="2946240" y="3244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Прямоугольник 1"/>
          <p:cNvSpPr/>
          <p:nvPr/>
        </p:nvSpPr>
        <p:spPr>
          <a:xfrm>
            <a:off x="3192480" y="765000"/>
            <a:ext cx="52671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Нет большей победы, чем победа над собой!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3924360" y="-1622880"/>
            <a:ext cx="501804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ahoma"/>
              </a:rPr>
              <a:t>ПАМЯТЬ О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ahoma"/>
              </a:rPr>
              <a:t>ГЕНЕРАЛЕ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ahoma"/>
              </a:rPr>
              <a:t>НАВСЕГД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6600"/>
                </a:solidFill>
                <a:latin typeface="Tahoma"/>
              </a:rPr>
              <a:t>ОСТАНЕТСЯ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ahoma"/>
              </a:rPr>
              <a:t>В НАШИХ СЕРДЦАХ!!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Прямоугольник 1"/>
          <p:cNvSpPr/>
          <p:nvPr/>
        </p:nvSpPr>
        <p:spPr>
          <a:xfrm>
            <a:off x="2946240" y="3244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Карбышев Дмитрий Михайлович</a:t>
            </a:r>
            <a:br>
              <a:rPr sz="3200"/>
            </a:br>
            <a:r>
              <a:rPr b="0" lang="ru-RU" sz="3200" spc="-1" strike="noStrike">
                <a:solidFill>
                  <a:srgbClr val="b3ce82"/>
                </a:solidFill>
                <a:latin typeface="Tahoma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 родился 26 октября 1880г.)</a:t>
            </a:r>
            <a:endParaRPr b="0" lang="en-US" sz="28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16000" y="2060280"/>
            <a:ext cx="424332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еный-фортификатор,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енерал-лейтенант инженерных войск, профессор Военной академии Генерального штаба, доктор военных наук, </a:t>
            </a:r>
            <a:r>
              <a:rPr b="0" lang="ru-RU" sz="2400" spc="-1" strike="noStrike">
                <a:solidFill>
                  <a:srgbClr val="ff6600"/>
                </a:solidFill>
                <a:latin typeface="Tahoma"/>
              </a:rPr>
              <a:t>Герой Советского Союз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32" descr="&amp;Kcy;&amp;acy;&amp;rcy;&amp;tcy;&amp;icy;&amp;ncy;&amp;kcy;&amp;acy; 42 &amp;icy;&amp;zcy; 310"/>
          <p:cNvPicPr/>
          <p:nvPr/>
        </p:nvPicPr>
        <p:blipFill>
          <a:blip r:embed="rId2"/>
          <a:stretch/>
        </p:blipFill>
        <p:spPr>
          <a:xfrm>
            <a:off x="539640" y="1989000"/>
            <a:ext cx="3024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264636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0"/>
          <p:cNvSpPr/>
          <p:nvPr/>
        </p:nvSpPr>
        <p:spPr>
          <a:xfrm>
            <a:off x="826920" y="33336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22"/>
          <p:cNvSpPr/>
          <p:nvPr/>
        </p:nvSpPr>
        <p:spPr>
          <a:xfrm>
            <a:off x="2556000" y="293760"/>
            <a:ext cx="4803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ff6600"/>
                </a:solidFill>
                <a:latin typeface="Tahoma"/>
              </a:rPr>
              <a:t>Биография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Детство, юность, начало служб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23"/>
          <p:cNvSpPr/>
          <p:nvPr/>
        </p:nvSpPr>
        <p:spPr>
          <a:xfrm>
            <a:off x="596520" y="2349360"/>
            <a:ext cx="32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Кадетский корпу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26" descr="350px-%D0%A1%D0%98%D0%91_%D0%9A%D0%9A_1916_%D0%B3%D0%BE%D0%B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2997360"/>
            <a:ext cx="3333600" cy="34574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7"/>
          <p:cNvSpPr/>
          <p:nvPr/>
        </p:nvSpPr>
        <p:spPr>
          <a:xfrm>
            <a:off x="4427640" y="1557360"/>
            <a:ext cx="429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дился в городе Омске в семье военного чиновника, татарин - крещен по национальности. Двенадцатилетним остался без отца. Несмотря на большие материальные затруднения, Карбышев блестяще закончил Сибирский кадетский корпус и в 1898 году был принят в </a:t>
            </a:r>
            <a:r>
              <a:rPr b="0" lang="ru-RU" sz="1800" spc="-1" strike="noStrike">
                <a:solidFill>
                  <a:srgbClr val="ff6600"/>
                </a:solidFill>
                <a:latin typeface="Tahoma"/>
              </a:rPr>
              <a:t>Петербургское Николаевское военно-инженерное училище (г.Петербург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29" descr="&amp;Kcy;&amp;acy;&amp;rcy;&amp;tcy;&amp;icy;&amp;ncy;&amp;kcy;&amp;acy; 7 &amp;icy;&amp;zcy; 1695"/>
          <p:cNvPicPr/>
          <p:nvPr/>
        </p:nvPicPr>
        <p:blipFill>
          <a:blip r:embed="rId5"/>
          <a:stretch/>
        </p:blipFill>
        <p:spPr>
          <a:xfrm>
            <a:off x="4500720" y="4365720"/>
            <a:ext cx="35654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3132000" y="115920"/>
            <a:ext cx="5867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1900 году по окончании училища направлен в чине подпоручика служить начальником кабельного отделения телеграфной роты в 1-й Восточно - Сибирский сапёрный батальон, дислоцировавшийся  г.Владивостоке, навстречу разгорающейся русско-японской войне..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5796000" y="3141720"/>
            <a:ext cx="29178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1606320" y="189000"/>
            <a:ext cx="633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ahoma"/>
              </a:rPr>
              <a:t>Русско-японская вой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843280" y="907920"/>
            <a:ext cx="615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ходе русско-японской войны в составе батальона укреплял позиции, устанавливал средства связи, наводил мосты, вёл разведку боем. Участвовал в сражении под Мукденом. Награждён </a:t>
            </a:r>
            <a:r>
              <a:rPr b="0" lang="ru-RU" sz="2400" spc="-1" strike="noStrike">
                <a:solidFill>
                  <a:srgbClr val="ff6600"/>
                </a:solidFill>
                <a:latin typeface="Tahoma"/>
              </a:rPr>
              <a:t>орденам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ru-RU" sz="2400" spc="-1" strike="noStrike">
                <a:solidFill>
                  <a:srgbClr val="ff6600"/>
                </a:solidFill>
                <a:latin typeface="Tahoma"/>
              </a:rPr>
              <a:t>медалям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Войну закончил в чине поручика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9" descr="RUSSOJAPANESEWARIMAG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3213000"/>
            <a:ext cx="274464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1892880" y="0"/>
            <a:ext cx="607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Tahoma"/>
              </a:rPr>
              <a:t>Первая Мировая вой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348000" y="907920"/>
            <a:ext cx="5580000" cy="32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рбышев Д.М-участник Первой мировой войны с первого дня. Воевал в Карпатах в составе 8-й армии генерала А.А. Брусилова (Юго-Западный фронт). Был дивизионным инженером 78-й и 69-й пехотных дивизий, затем начальником инженерной службы 22-го финляндского стрелкового корпуса. В начале 1915 года участвовал в штурме крепости  г.Перемышль. Был ранен в ногу. За храбрость и отвагу награждён </a:t>
            </a:r>
            <a:r>
              <a:rPr b="0" lang="ru-RU" sz="1800" spc="-1" strike="noStrike">
                <a:solidFill>
                  <a:srgbClr val="ff6600"/>
                </a:solidFill>
                <a:latin typeface="Tahoma"/>
              </a:rPr>
              <a:t>орденом св. Анн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произведён в подполковники. В 1916 году был участником знаменитого Брусиловского прорыва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Картинка 4 из 1062"/>
          <p:cNvPicPr/>
          <p:nvPr/>
        </p:nvPicPr>
        <p:blipFill>
          <a:blip r:embed="rId2"/>
          <a:stretch/>
        </p:blipFill>
        <p:spPr>
          <a:xfrm>
            <a:off x="468360" y="4149720"/>
            <a:ext cx="4257720" cy="2519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Картинка 13 из 1062"/>
          <p:cNvPicPr/>
          <p:nvPr/>
        </p:nvPicPr>
        <p:blipFill>
          <a:blip r:embed="rId3"/>
          <a:stretch/>
        </p:blipFill>
        <p:spPr>
          <a:xfrm>
            <a:off x="5076720" y="4149720"/>
            <a:ext cx="359424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2710440" y="81720"/>
            <a:ext cx="54583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Вступление в ряды РК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Рабоче-крестьянская Красная Армия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-22287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203640" y="1125360"/>
            <a:ext cx="524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декабре 1917 года в Могилев-Подольском  Д. М. Карбышев вступил в Красную гвардию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1918 года в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Красной Армии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6480000" y="5229360"/>
            <a:ext cx="26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Переприсяга Д.Карбышева Временному правительств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&amp;Fcy;&amp;acy;&amp;jcy;&amp;lcy;:1917 &amp;Pcy;&amp;iecy;&amp;rcy;&amp;iecy;&amp;pcy;&amp;rcy;&amp;icy;&amp;scy;&amp;yacy;&amp;gcy;&amp;acy; &amp;Dcy;.&amp;Kcy;&amp;acy;&amp;rcy;&amp;bcy;&amp;ycy;&amp;shcy;&amp;iecy;&amp;vcy;&amp;acy; &amp;Vcy;&amp;rcy;&amp;iecy;&amp;mcy;.&amp;pcy;&amp;rcy;&amp;acy;&amp;vcy;&amp;icy;&amp;tcy;&amp;iecy;&amp;lcy;&amp;softcy;&amp;scy;&amp;tcy;&amp;vcy;&amp;ucy; &amp;Rcy;&amp;ocy;&amp;dcy;&amp;icy;&amp;ncy;&amp;acy;8-9 1993.jpg"/>
          <p:cNvPicPr/>
          <p:nvPr/>
        </p:nvPicPr>
        <p:blipFill>
          <a:blip r:embed="rId2"/>
          <a:stretch/>
        </p:blipFill>
        <p:spPr>
          <a:xfrm>
            <a:off x="2124000" y="2781360"/>
            <a:ext cx="420228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725760" y="259920"/>
            <a:ext cx="830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Академия им. Фрунзе, Академия Генштаб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635280" y="982080"/>
            <a:ext cx="4292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1923—1926 годах Карбышев Д.М.- </a:t>
            </a:r>
            <a:r>
              <a:rPr b="0" lang="ru-RU" sz="1600" spc="-1" strike="noStrike">
                <a:solidFill>
                  <a:srgbClr val="ff6600"/>
                </a:solidFill>
                <a:latin typeface="Tahoma"/>
              </a:rPr>
              <a:t>председатель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Инженерного комитета Главного военно-инженерного управления РК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635280" y="2060640"/>
            <a:ext cx="47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 1926 года — </a:t>
            </a:r>
            <a:r>
              <a:rPr b="0" lang="ru-RU" sz="1600" spc="-1" strike="noStrike">
                <a:solidFill>
                  <a:srgbClr val="ff6600"/>
                </a:solidFill>
                <a:latin typeface="Tahoma"/>
              </a:rPr>
              <a:t>преподаватель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в Военной академии имени М.В.Фрунзе в г.Москв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635280" y="2637720"/>
            <a:ext cx="45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1938 году окончил Военную академию Генерального штаба. В том же году утверждён в учёном звании </a:t>
            </a:r>
            <a:r>
              <a:rPr b="0" lang="ru-RU" sz="1600" spc="-1" strike="noStrike">
                <a:solidFill>
                  <a:srgbClr val="ff6600"/>
                </a:solidFill>
                <a:latin typeface="Tahoma"/>
              </a:rPr>
              <a:t>профессора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635280" y="3573360"/>
            <a:ext cx="43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1941 году — </a:t>
            </a:r>
            <a:r>
              <a:rPr b="0" lang="ru-RU" sz="1600" spc="-1" strike="noStrike">
                <a:solidFill>
                  <a:srgbClr val="ff6600"/>
                </a:solidFill>
                <a:latin typeface="Tahoma"/>
              </a:rPr>
              <a:t>учёная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6600"/>
                </a:solidFill>
                <a:latin typeface="Tahoma"/>
              </a:rPr>
              <a:t>степень доктора военных наук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14" descr="&amp;Kcy;&amp;acy;&amp;rcy;&amp;tcy;&amp;icy;&amp;ncy;&amp;kcy;&amp;acy; 9 &amp;icy;&amp;zcy; 83"/>
          <p:cNvPicPr/>
          <p:nvPr/>
        </p:nvPicPr>
        <p:blipFill>
          <a:blip r:embed="rId2"/>
          <a:stretch/>
        </p:blipFill>
        <p:spPr>
          <a:xfrm>
            <a:off x="5435640" y="4005360"/>
            <a:ext cx="19508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"/>
          <p:cNvSpPr/>
          <p:nvPr/>
        </p:nvSpPr>
        <p:spPr>
          <a:xfrm>
            <a:off x="2101320" y="81720"/>
            <a:ext cx="551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Советско-финская вой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059280" y="491760"/>
            <a:ext cx="5522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рбышев Д.М.участник советско-финской войны 1939-1940 годов. В составе группы заместителя начальника Главного военно-инженерного управления по оборонительному строительству вырабатывал рекомендации войскам по инженерному обеспечению прорыва </a:t>
            </a:r>
            <a:r>
              <a:rPr b="0" lang="ru-RU" sz="1800" spc="-1" strike="noStrike">
                <a:solidFill>
                  <a:srgbClr val="ff6600"/>
                </a:solidFill>
                <a:latin typeface="Tahoma"/>
              </a:rPr>
              <a:t>линии Маннергейма(комплекс оборонительных сооружений)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7" descr="&amp;Kcy;&amp;acy;&amp;rcy;&amp;tcy;&amp;icy;&amp;ncy;&amp;kcy;&amp;acy; 3 &amp;icy;&amp;zcy; 6939"/>
          <p:cNvPicPr/>
          <p:nvPr/>
        </p:nvPicPr>
        <p:blipFill>
          <a:blip r:embed="rId2"/>
          <a:stretch/>
        </p:blipFill>
        <p:spPr>
          <a:xfrm>
            <a:off x="3203640" y="3068640"/>
            <a:ext cx="5580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1T08:58:22Z</dcterms:created>
  <dc:creator>user</dc:creator>
  <dc:description/>
  <dc:language>en-US</dc:language>
  <cp:lastModifiedBy>Admin</cp:lastModifiedBy>
  <dcterms:modified xsi:type="dcterms:W3CDTF">2022-05-10T16:18:59Z</dcterms:modified>
  <cp:revision>49</cp:revision>
  <dc:subject/>
  <dc:title>Слайд 1</dc:title>
</cp:coreProperties>
</file>